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D5B02-5A79-4AD6-B3F8-FE02962F67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B3BC7-720F-48C1-8846-6DE13FCB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CB0BB-F831-46C9-B5EF-3CA37958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3271B-6C69-433A-BAD4-1FFDA743A6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A817C-BC92-4B1E-B0C7-319F55EA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D7D1F-F6F2-4512-A2D4-48D4638E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08C29-32CC-4FA3-BEFF-868DAA7C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5C3DD-626D-4237-ABE4-0AEB6CB2F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3B211-2148-409D-AB01-640CE68AE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DDCD1-7D46-47AF-9E09-8A867ACE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16304-9799-4FA3-95D9-5D666756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A6022-E804-4D35-AD93-5B6D405D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2BE3-9E52-4C98-A7EC-C44B0028791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808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</a:t>
            </a:r>
            <a:r>
              <a:rPr b="1" lang="zh-CN" sz="4000" spc="-1" strike="noStrike">
                <a:solidFill>
                  <a:srgbClr val="ff0066"/>
                </a:solidFill>
                <a:latin typeface="Verdana"/>
                <a:ea typeface="宋体"/>
              </a:rPr>
              <a:t>第九节  </a:t>
            </a:r>
            <a:br>
              <a:rPr sz="4000"/>
            </a:br>
            <a:r>
              <a:rPr b="1" lang="zh-CN" sz="4000" spc="-1" strike="noStrike">
                <a:solidFill>
                  <a:srgbClr val="ff0066"/>
                </a:solidFill>
                <a:latin typeface="Verdana"/>
                <a:ea typeface="宋体"/>
              </a:rPr>
              <a:t>其他疾病的康复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2484360" y="5013360"/>
            <a:ext cx="51818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Verdana"/>
                <a:ea typeface="宋体"/>
              </a:rPr>
              <a:t>第二节   骨质疏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椎体压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椎体骨折多见于绝经后骨质疏松，可引起身长缩短、驼背，多在疼痛后出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这是退行性骨质疏松症最常见和最严重的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呼吸功能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胸、腰椎压缩性骨折，脊椎后弯，胸廓畸形，可使肺活量和最大换气量显著减少，患者往往可出现胸闷、气短、呼吸困难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关节活动范围受限，腰背肌活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三）站立与行走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四）日常生活活动或职业活动能力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五）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危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日常饮食结构；运动及体力活动；有无腰痛及疼痛的性质；有无骨折，既往有无长期服用某些药物的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124000" y="1341000"/>
            <a:ext cx="5780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一）危险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年龄、性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遗传、家族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内分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活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药物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营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一）康复护理原则及目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康复护理原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康复护理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二）康复护理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康复护理原则及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康复护理原则  减轻或消除患者的焦虑，减轻疼痛，做好疾病的预防工作，积极对症处理，降低骨折的发生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强调三级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降低骨折的发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康复护理目标   防治骨折；减少并发症，降低病死率；提高康复水平；改善生存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级预防</a:t>
            </a:r>
            <a:br>
              <a:rPr sz="24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一级预防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从青少年开始，注意合理的饮食，适当的体育锻炼，养成健康的生活方式，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WHO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指出钙剂是骨质疏松症的膳食补充剂，补钙是预防骨质疏松症的基本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二级预防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对绝经后的妇女，应及早地采取对策，积极防治与骨质疏松症有关的疾病，如糖尿病、甲状腺功能亢进症、慢性肾炎、甲状旁腺功能亢进症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三级预防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对已患有骨质疏松症的患者，应预防不恰当的用力和跌倒，对骨折者要及时进行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疼痛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疼痛是原发性骨质疏松症最常见的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鼓励患者参加户外的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活动可以改善人体骨骼的强度，有助于承受较大的外力作用，可以预防骨折，减轻疼痛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安全预防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预防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防止跌倒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跌倒是引起骨折的最常见原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安全预防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629080" y="49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763640" y="5302080"/>
            <a:ext cx="719280" cy="665280"/>
          </a:xfrm>
          <a:prstGeom prst="hexagon">
            <a:avLst>
              <a:gd name="adj" fmla="val 27029"/>
              <a:gd name="vf" fmla="val 1154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844720" y="58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620640"/>
            <a:ext cx="8077320" cy="24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安全预防康复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防止跌倒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防止跌倒的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多作增强下肢肌力的练习，指导患者进行脊椎灵活性练习和增强平衡协调性的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增强平稳协调性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按预防跌倒风险评估，做好预防跌倒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）安全预防教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日常生活中正确的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适当的使用护理自助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家庭环境的适当改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正确的防止跌倒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运动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骨质疏松症患者进行运动疗法，是最有效和最基本的方法。应注意合理的运动量，运动强度以低、中等强度为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根据个体情况，制订出合适强度和时间的训练方案，选择合适的运动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有氧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8077320" cy="2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良好生活习惯及合理饮食的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改变生活方式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饮食需均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选择合适的娱乐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. ADL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日常生活能力训练项目包括：大便控制、小便控制、修饰、如厕、进餐、转移（床←→椅）、活动（步行，在家庭及其周围社区）、穿衣、上下楼梯、洗澡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691920"/>
            <a:ext cx="8077320" cy="17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6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理疗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理疗对骨质疏松症引起的疼痛、麻木和骨折，有一定疗效。常用方法有蜡疗、红外线、磁疗、直流电离子导入、超短波、微波、超声波、低中频电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理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易出现焦虑，紧张，郁闷等心理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正确引导，给患者讲解疾病相关的知识，指导其预防与治疗的方法。减轻患者思想负担，增强信心，积极配合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8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继发骨折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若患者有脊柱压缩性骨折，静卧期间可进行床上维持和强化肌力训练，主要进行腰背肌、臀肌、腹肌的等长运动训练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3~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周后逐渐进行坐位、站立位的上述肌肉肌力和耐力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护理指导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饮食调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三）保持正确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四）安全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一、选择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质疏松的最终结局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折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B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行走困难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腰背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质疏松的患者要求饮食含钙丰富，下列哪种符合条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橙、橘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B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豆制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腊味食品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罐头食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质疏松的适宜步行时间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5~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    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B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20~3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10~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40~6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35C3-2C3A-469C-8F12-C5BAD86A91A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84360" y="155736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472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骨质疏松发病的病因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描述骨质疏松的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解释骨质疏松的主要功能障碍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评估骨质疏松后疼痛并为其制订康复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女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岁。因“反复腰腿疼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年，再发加重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天”入院。诊断：腰椎间盘突出症、骨质疏松症。患者反复腰腿疼痛，不能行走。到医院经骨密度测定及实验室检查，最后诊断为继发性骨质疏松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请问：该患者目前应采取的康复护理措施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 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骨质疏松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osteoporosis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OP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一种以骨量减少和骨强度降低为特征，导致骨质脆性增加和易于骨折的全身性骨代谢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吸收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形成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吸收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1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性激素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2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甲状旁腺素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PT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3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降钙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4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妊娠和哺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形成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遗传因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身材、肥瘦、肌肉发达程度和胃肠功能均与遗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营养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生活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痛和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椎体压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折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这是退行性骨质疏松症最常见和最严重的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呼吸功能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痛和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原发性骨质疏松症最常见的症状，以腰背痛多见。一般骨量丢失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2%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上时即可出现骨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10:42:34Z</dcterms:modified>
  <cp:revision>1</cp:revision>
  <dc:subject/>
  <dc:title>      第九节   其他疾病的康复护理</dc:title>
</cp:coreProperties>
</file>